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D204-3009-4766-B92B-5A3A0A30D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B966-060B-48B9-B790-180DC1B83C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AF1-D301-4C83-9807-5A1FEB4A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9D3-E340-4FE6-B269-69F4B624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2018-0719-4F6B-B05E-6CEAC8C6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D9B-42D5-4360-8833-DE932AFC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FD4F-A318-438C-B7FA-6EA25CC8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7122-6D02-427E-9118-444974B2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6940-1E81-45D0-9B4B-71998FC3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F53D-6923-4B69-9808-73947891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868B-975C-4C6C-A4BA-9F90E5B6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B6D0-CC76-4B8D-9048-2B0CA395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2177-B4D1-4FE5-AA7A-A45ABF7C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A9C-F8F3-4074-82A9-591D9F2C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1E59-B027-4135-86FE-F636AF79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4E44-9E91-4947-8708-F547DD9C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76D7-D9E6-44C9-89BD-394831E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F73E-5395-4B63-934B-A2DCBF94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FEFC-15E5-4383-AB77-BD0E7655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A0D-B183-4DAE-B851-A51DD343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0AA-22C3-4F83-A5F7-02856874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D890-D032-4583-8B7C-45D81196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383-4F0F-4740-A6CB-25B24715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C568-2D50-47A4-A735-D5B3A16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B586-6330-4AFA-A8D0-02162B98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6B1-0555-429D-BB18-B97AA73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6C3B-54D6-4D54-8BC1-B9B1FC45B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B7AA-19A1-4394-B714-35C50D34DB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Writing prom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neatly and in complete sent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explain your ans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76212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EXPLAIN THE DIFFERENCE BETWEEN EXPRESSED AND IMPLIED POWERS OF CONGRES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762120" y="3611520"/>
            <a:ext cx="2914560" cy="2176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3"/>
          <a:stretch/>
        </p:blipFill>
        <p:spPr>
          <a:xfrm>
            <a:off x="5105520" y="3581280"/>
            <a:ext cx="3852720" cy="220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2T16:39:18Z</dcterms:modified>
  <cp:revision>125</cp:revision>
  <dc:subject/>
  <dc:title>D/O: TO EXPLAIN AND IDENTIFY PROBLEMS OF ECONOMICS</dc:title>
</cp:coreProperties>
</file>